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png" ContentType="image/png"/>
  <Override PartName="/ppt/media/image6.wmf" ContentType="image/x-wmf"/>
  <Override PartName="/ppt/media/image10.wmf" ContentType="image/x-wmf"/>
  <Override PartName="/ppt/media/image9.png" ContentType="image/png"/>
  <Override PartName="/ppt/media/image8.wmf" ContentType="image/x-wmf"/>
  <Override PartName="/ppt/media/image7.wmf" ContentType="image/x-wmf"/>
  <Override PartName="/ppt/media/image12.png" ContentType="image/png"/>
  <Override PartName="/ppt/media/image5.png" ContentType="image/png"/>
  <Override PartName="/ppt/media/image21.png" ContentType="image/png"/>
  <Override PartName="/ppt/media/image3.wmf" ContentType="image/x-wmf"/>
  <Override PartName="/ppt/media/image13.jpeg" ContentType="image/jpeg"/>
  <Override PartName="/ppt/media/image19.wmf" ContentType="image/x-wmf"/>
  <Override PartName="/ppt/media/image14.jpeg" ContentType="image/jpeg"/>
  <Override PartName="/ppt/media/image1.wmf" ContentType="image/x-wmf"/>
  <Override PartName="/ppt/media/image2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4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BABB88-5E79-49B8-B7C2-84311453B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A72E12-2368-4614-84B3-EFA9365E1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941EB5-B364-42BD-9F92-AEF6332B3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53A785-4941-4F2D-B5C6-B5AF8B2F5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9F794-EC34-4498-A68C-D5CC09EE1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E51D6-6A1A-462B-9F1B-6955508FD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0C278-E4FA-4ACB-8C00-392274C3F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9898D-BA8E-4B41-A0CB-394796C88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43929-E015-43BA-94A0-D0ECBA047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2E1D0-C4E9-4748-87B2-C82E9D9E8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43EDD-DD2B-4B0B-819A-76AB2E221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2CA5EF-26A2-4714-8D26-FBAB6A010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F44F3-25BD-4539-BB95-7FE1B09EB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BF755-BAB4-4ECD-9A8E-39C298B72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4434E-04F8-400A-B360-4286DB5F0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4E070-C0FE-410B-837F-7D3AD3A65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936CA-97B3-480D-84B0-D2C694233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BB0CE7-4A98-46D5-904C-D9B658D50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AEAD39-23D9-4714-A8BD-9883A5C9A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22DF88-2E93-42A5-AD75-A55013573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9766D2-9E5A-434E-B458-804EE6A04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A990BF-68D7-459F-AA15-26F876093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DA84E3-B705-447A-BF5A-504E07F0A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28FA93-E80A-4186-BE87-882C18D04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97B15-7311-44EF-8DDF-FF8018B6D71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924C9-55E8-4C57-B4EE-4F6F73389EC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.wmf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1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276720" y="152280"/>
            <a:ext cx="5486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ravel Agency Start-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28600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Brad Feinstei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lena de Marco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ddharth Gupt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Nancy Sardon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sz-Yan Doris Sum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743200" y="2438280"/>
            <a:ext cx="64008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Crystal Ball Travels</a:t>
            </a:r>
            <a:br>
              <a:rPr sz="3600"/>
            </a:br>
            <a:br>
              <a:rPr sz="2800"/>
            </a:b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“We know where you want to go…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14400" y="527220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“…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with 95% certainty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7467480" y="2286000"/>
            <a:ext cx="912960" cy="7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for Crystal Ball Model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ndom variable: # of packages / mon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rmal distribution based on historical data: US data expressed per month. New York having 10%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ur target is 3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d. deviation &amp; Mean from de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ec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it = Revenue – Agent Costs – Fixed Co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8231040" y="6087960"/>
            <a:ext cx="912960" cy="77004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7543800" y="304920"/>
            <a:ext cx="127332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rystal Ball Model</a:t>
            </a: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Destination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52280" y="1933560"/>
            <a:ext cx="8858520" cy="469584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8231040" y="6087960"/>
            <a:ext cx="912960" cy="77004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7543800" y="228600"/>
            <a:ext cx="127332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rystal Ball Model</a:t>
            </a: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destination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76320" y="2057400"/>
            <a:ext cx="9010440" cy="373392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8231040" y="6087960"/>
            <a:ext cx="912960" cy="77004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3"/>
          <a:stretch/>
        </p:blipFill>
        <p:spPr>
          <a:xfrm>
            <a:off x="5410080" y="457200"/>
            <a:ext cx="1160640" cy="137160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4"/>
          <a:stretch/>
        </p:blipFill>
        <p:spPr>
          <a:xfrm>
            <a:off x="7010280" y="685800"/>
            <a:ext cx="1722600" cy="114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rystal Ball Results</a:t>
            </a: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Destination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286000" y="5530680"/>
            <a:ext cx="502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mand will be 250 packages to the 8 destinations together with 98% certain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2286000" y="1828800"/>
            <a:ext cx="4952880" cy="348624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8231040" y="6087960"/>
            <a:ext cx="912960" cy="7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rystal Ball Results</a:t>
            </a: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Destination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920" y="5181480"/>
            <a:ext cx="403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venues will be between $50K and $71.9K with a 90% certain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800600" y="5180040"/>
            <a:ext cx="403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fit will be above $50K with 90% certain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4724280" y="1868400"/>
            <a:ext cx="4267440" cy="323532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81000" y="1892160"/>
            <a:ext cx="4567320" cy="321336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8231040" y="6087960"/>
            <a:ext cx="912960" cy="7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rystal Ball Results</a:t>
            </a: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Destination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304920" y="2362320"/>
            <a:ext cx="8610480" cy="255744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8231040" y="6087960"/>
            <a:ext cx="912960" cy="7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ke-away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icate data 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x Solver model with multiple decision vari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sitivi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ystal ball provides more realistic estim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results from Solver and Crystal B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ver maximum revenues driven by profit marg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ystal Ball revenues driven by random dem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8231040" y="6087960"/>
            <a:ext cx="912960" cy="7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xt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siness estimates look favorabl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v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negotiate contractual agreements with airlines and hotel to maximize prof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y multiple destination pack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tential expansion to other US c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ket the more profitable destin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ize # 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ider effects of FX on prof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8231040" y="6087960"/>
            <a:ext cx="912960" cy="77004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2743200" y="152280"/>
            <a:ext cx="1828800" cy="15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imoni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4343400" y="1905120"/>
            <a:ext cx="3801960" cy="398592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3481560" cy="38098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8231040" y="6087960"/>
            <a:ext cx="912960" cy="7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ject idea: travel agency based in NYC to sell travel packages going to 8 different cities, with various accommodation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step: estimate  maximum revenues based on contractual agreements (use of Solv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step: based on maximized revenues calculate profits with randomized demand (use of crystal bal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8231040" y="6087960"/>
            <a:ext cx="912960" cy="7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ata Searc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d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07 Euromoni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tional Statistics of Gree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urkish Statistical Institu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8231040" y="6087960"/>
            <a:ext cx="912960" cy="77004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6172200" y="685800"/>
            <a:ext cx="2514600" cy="24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ata for Solver Mode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dri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52280" y="1774800"/>
            <a:ext cx="8871120" cy="48546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8231040" y="6087960"/>
            <a:ext cx="912960" cy="7700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5715000" y="3352680"/>
            <a:ext cx="3174840" cy="24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fitability Assump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722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contractual agreeme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it from Flights – 5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it from Accommodation (low) – 3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it from Accommodation (med) – 6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it from Accommodation (high) – 8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ume fixed costs, agent co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gents not always fully 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8231040" y="6087960"/>
            <a:ext cx="912960" cy="77004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7162920" y="457200"/>
            <a:ext cx="171432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mand Assumptions / Constrai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mand from Accommod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low) – 6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med) – 25%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high) – 15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0 Packages per we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l Minimum of 3 packages per lo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8231040" y="6087960"/>
            <a:ext cx="912960" cy="77004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5638680" y="2133720"/>
            <a:ext cx="2841840" cy="209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lver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52280" y="1805040"/>
            <a:ext cx="8915400" cy="436716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8231040" y="6087960"/>
            <a:ext cx="912960" cy="7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lver Results</a:t>
            </a: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ekly sensitivity ana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523880" y="1963800"/>
            <a:ext cx="5715000" cy="458928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8231040" y="6087960"/>
            <a:ext cx="912960" cy="7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lver Resul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1752480" y="1371600"/>
            <a:ext cx="5292720" cy="533412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8231040" y="6087960"/>
            <a:ext cx="912960" cy="7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1T21:29:39Z</dcterms:created>
  <dc:creator> Brad Feinstein</dc:creator>
  <dc:description/>
  <dc:language>en-US</dc:language>
  <cp:lastModifiedBy> Brad Feinstein</cp:lastModifiedBy>
  <dcterms:modified xsi:type="dcterms:W3CDTF">2007-12-03T06:44:04Z</dcterms:modified>
  <cp:revision>15</cp:revision>
  <dc:subject/>
  <dc:title>Slide 1</dc:title>
</cp:coreProperties>
</file>